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175-1D80-493F-916E-5DFA1868A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FB7-8678-4FF4-B096-7F0191997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BAFF-2FC7-4F85-B9FD-E1CA5FF8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AFCB-A369-4AFB-AB7D-2DCCBBA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93A6-D8DB-42BC-A621-9AA6E75F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9DE7-6800-4558-9B2D-A4041A6A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88D6-3FC6-4C4B-9C1B-070EF05A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A445-BD14-4895-99C9-854A238A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D73-1F88-40EE-A605-F16E31CF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7575-C5D0-4819-A6F0-7C418467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9714-23E8-44FB-BBD9-DADCA6E2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01E0-0F8F-482A-8E07-ED56F5BD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E69-F024-4294-B486-9F786BA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C83F-C887-458A-83BF-07060BC1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CDE-C803-4D25-A189-E07DA011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311E-5C14-4DEF-81F3-2B2DCCB7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3203-D309-4EB9-ABEA-E6F8A2B6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E069-CB2E-4627-B3ED-1EF90774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4882-10D9-45DD-B944-D2E9BA0E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4964-3B63-43BB-913F-37CC8356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CA453-8E73-47A5-AAC0-5F2282A5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7817-2848-41A1-9801-3930FA41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BC47-520A-45D4-8A5A-A5DC6B0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4C84-0410-4B84-840B-B60532A8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01F6-4615-42AB-BD59-CB3B2925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3A15-3CDA-4C3E-B85B-3144519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AF8C-D49D-4BB7-B6C5-3ADFD69A0F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B415-C0FC-4A74-871A-581D464940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icrosoft.com/protect/computer/firewall/faq.mspx" TargetMode="External"/><Relationship Id="rId2" Type="http://schemas.openxmlformats.org/officeDocument/2006/relationships/hyperlink" Target="http://www.windowsmarketplace.com/category.aspx?bcatid=326&amp;tabid=2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Throughout the ages man has struggled with the Subj. of Right &amp; Wrong, Ethics &amp; Justice`</a:t>
            </a: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`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Computer Viru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What is Computer Viru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mputer viruses are small software programs that are designed to spread from one computer to another and to interfere with computer ope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Spreading of Vir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Virus are most easily sprea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pread through E-mail Attachment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nstant Messaging message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Funny Image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udio and Videos file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ownloading files from Internet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Greeting cards and many mo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Steps to help avoid Viru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an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Internet firewal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cribe to 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industry standard antivirus softwa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open an e-mail attachment from someone you don't know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an each and every attachment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 to be followed, while surfing 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e5ff"/>
                </a:solidFill>
                <a:latin typeface="Monotype Corsiva"/>
              </a:rPr>
              <a:t>COMPUTER CRIM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409720" y="624852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TYPES OF COMPUTER CRI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ARGET OF THE CR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EDIUM OF THE ATT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O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TIMIDATE OR DECE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Types of Computer Crimin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Outsi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nsid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REASON FOR COMPUTER CRI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DEOLOG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GOCENT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METHODS OF ATTAC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DATA TEMP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Programming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OTHER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puter Crime can be Defined as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nfrastru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legal ac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legal Interu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Interf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stem Interf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use Of De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ic Frau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4479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Ethics 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Information Technolo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Monotype Corsiva"/>
              </a:rPr>
              <a:t>Software piracy and Hack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5823720" y="641016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at is PIRACY??????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Reselling Medi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 </a:t>
            </a: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Downloading from a websit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 </a:t>
            </a: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Taping song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Buying a used book or C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Monotype Corsiva"/>
              </a:rPr>
              <a:t>Watching broadcast television but skipping commercial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Types of 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nd User Pir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lient – Server Pir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nternet Pir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Hard-Disk Pir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oftware Counterfei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5823720" y="641016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End-User 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occurs when a company employee reproduces copies of software without author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Copying disk for installation and distribu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Swapping disks in or outside the workp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Client-Server 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type of piracy occurs when too many employees on a network are using a central copy of a program at the same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System Over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Internet 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occurs when software is downloaded from the Internet The same purchasing rules should apply to online software purchase as for those bought in traditional w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irate websi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Unauthorized transfer of copyrighted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Hard-Disk Loa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occurs when a business who sells new computers loads illegal copies of software onto the hard disks to make the purchase of the machines more attra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Value Added Resellers (VA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5823720" y="641016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Software Counterfei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type of piracy is the illegal duplication and sale of copyrighted material with the intent of directly imitating the copyrighted produ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HACK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ome one who bypasses the system’s access controls by taking advantage of security weaknesses left in the system by developers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What HACKER do?????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Access confidential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reaten someone from YOUR compu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roadcast your confidential letters or materials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tore illegal mater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"/>
          <p:cNvSpPr/>
          <p:nvPr/>
        </p:nvSpPr>
        <p:spPr>
          <a:xfrm>
            <a:off x="5823720" y="641016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5e5ff"/>
                </a:solidFill>
                <a:latin typeface="Monotype Corsiva"/>
              </a:rPr>
              <a:t>Conten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Garamond"/>
              </a:rPr>
              <a:t>What is Ethics and Information Technology?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Garamond"/>
              </a:rPr>
              <a:t>Ethical issues relating to computer appl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Garamond"/>
              </a:rPr>
              <a:t>Security Thre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Computer Viru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Cyber Cr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Software piracy and Hack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Computer crime preven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Case Stu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Garamond"/>
              </a:rPr>
              <a:t>Ethical dilemmas and consid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Evils of Hac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mpromise the security of system without permission from an authorized party, usually with the intent of accessing  computers connected to the net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Advantage of Hac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o determine problem and weakness for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reation of firew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Useful for military purpose and sp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etter computer secu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Monotype Corsiva"/>
              </a:rPr>
              <a:t>Computer crime preven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mputer crime is becoming ever prevalent in our society. More and more companies and individuals rely on the service and resources provided through networks compu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Monotype Corsiva"/>
              </a:rPr>
              <a:t>TYPES OF COMPUTER CRIME PREVEN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nternet crime preven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evention of cyber crim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evention of computer crime in bank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T secur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omputer crime prevention law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Hi tech crime prevention la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omputer crime preventing on line frau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World risk investigation and terrorist preven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Garamond"/>
              </a:rPr>
              <a:t>Case Study </a:t>
            </a:r>
            <a:br>
              <a:rPr sz="6000"/>
            </a:br>
            <a:r>
              <a:rPr b="1" i="1" lang="en-US" sz="6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Monotype Corsiva"/>
              </a:rPr>
              <a:t>of sole remaining supplier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Key points of Case Stu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ackground (pacemak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Lack of dexterity in installation of pacema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rious consequen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ransistor making company decided to pull its hand out of busi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Monotype Corsiva"/>
              </a:rPr>
              <a:t>Key points of Case Stu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Realization of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thical dilem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Different views in board of dire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eory of utilitari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THICAL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DILEMMAS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AND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ONSIDERATIO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ical dilemmas in 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lemmas are discussed in relation to four areas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v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on accu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inform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llectual property r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5e5ff"/>
                </a:solidFill>
                <a:latin typeface="Garamond"/>
              </a:rPr>
              <a:t>Ethic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ived from the Greek word “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etho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, which means “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cust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, “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hab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, and “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way of livi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0" i="1" lang="en-US" sz="3600" spc="-1" strike="noStrike">
                <a:solidFill>
                  <a:srgbClr val="ff3300"/>
                </a:solidFill>
                <a:latin typeface="Garamond"/>
              </a:rPr>
              <a:t>the discipline and practice of applying value to human behavior, resulting in meaningful condu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thical dilemmas in relation to IT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GIARISM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aking of ideas,writing and drawings or other similar intellectual property created by others and presenting it as your ow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IQUETT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et of rules (mainly unwritten) to follow while you are onlin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OME IMPORTANT VIEW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et offers great riches for the future,but poses many threa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chnology requires vigi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ations regarding information ethics influence personal decisions,professional practice and public polic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FFECTIVE WAY OUT OF SUCH DILEMM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Presented By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Solanki Vimal S.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Binapani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Nishant Ranjan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Archana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Rajnish Choubey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Monotype Corsiva"/>
              </a:rPr>
              <a:t>Jyoti Singh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Monotype Corsiva"/>
              </a:rPr>
              <a:t>Cont………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Garamond"/>
              </a:rPr>
              <a:t>Professional Ethic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ncerns one's conduct of behavior and practice when carrying out professional work, e.g., consulting, researching, teaching and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A computing professional must understand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ultural, social, legal, and ethical issues in compu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esponsibility and possible consequences of fail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582372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Monotype Corsiva"/>
              </a:rPr>
              <a:t>Computer Eth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omputer ethics defin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Monotype Corsiva"/>
              </a:rPr>
              <a:t>as the application of classical ethical principles to the use of computer technolo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thical problems related to computer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puters create a false sense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do not realize how vulnerable information stored on computers 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oper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hysical proper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llectual property (in both copyright and paten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 as proper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ccess to computing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ccess to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Accu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ccuracy of information sto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Hacking, cracking and virus cre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oftware pi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en Commandments of computer ethics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have been defined by the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omputer Ethics Institute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.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1) Thou shalt not use a computer to harm other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2) Thou shalt not interfere with other people's computer 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3) Thou shalt not snoop around in other people's fi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4) Thou shalt not use a computer to ste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5) Thou shalt not use a computer to bear false witn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6) Thou shalt not use or copy software for which you have not pa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7) Thou shalt not use other people's computer resources without authoris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8) Thou shalt not appropriate other people's intellectual outp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9) Thou shalt think about the social consequences of the program you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10) Thou shalt use a computer in ways that show consideration and resp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5747400" y="6334200"/>
            <a:ext cx="3262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Ethics and Information Te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0:51:10Z</dcterms:created>
  <dc:creator>ibmr</dc:creator>
  <dc:description/>
  <dc:language>en-US</dc:language>
  <cp:lastModifiedBy>ibmr</cp:lastModifiedBy>
  <dcterms:modified xsi:type="dcterms:W3CDTF">2008-10-22T04:39:51Z</dcterms:modified>
  <cp:revision>39</cp:revision>
  <dc:subject/>
  <dc:title>Slide 1</dc:title>
</cp:coreProperties>
</file>